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B17-32C9-4F57-9E0D-53A4D210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94D-26B7-4DA9-AF21-34D2E5F2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7A5-3C00-4DFC-8B99-4871B7DC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EC5-A9D1-4E45-A54B-D35B0030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6F0-A76C-4433-B2D6-8C0BD046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EB0-5BF5-4880-9525-10E367B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84A-89D9-412B-805A-096E9302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AC6-C443-434D-9C32-74A26B4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FAF-6900-4C8C-9A2A-0B9BDF62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7FA-6C44-4E70-AD37-20160E6C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56A-B4C0-4A87-AFE0-A1B5238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414-DF41-4B50-8C8F-7C93CB9D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6C2-0BCF-4C9B-82E5-E54C3BFA5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fängerunterricht Chemie in Klasse 8 statt in Klasse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 müssen, können, sollten wir anders und/oder  besser ma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i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e klein sind kleine Teilchen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 Ölfleckversuch ohne Kreiszah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1427040"/>
            <a:ext cx="4300560" cy="322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79280" y="5081760"/>
                <a:ext cx="60962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4 Tropfen ergaben 1 Millilit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Öl aus 1 Tropfe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80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4941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 = 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4880" y="2646360"/>
            <a:ext cx="3594240" cy="2870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126828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chsel zur Modelleb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gelteilchenmodell: Modell für die Teilchen in einem Öltrop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5877000"/>
            <a:ext cx="62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 der Petrischale   -     Kohäsionskrä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26828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chsel zur Modelleb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gelteilchen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5877000"/>
            <a:ext cx="62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 der Petrischale   -     Kohäsionskrä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00480" y="2286000"/>
            <a:ext cx="4300200" cy="3225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93080" y="24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= 4,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68280"/>
            <a:ext cx="41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m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szylinder     -      Bü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23385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66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268280"/>
            <a:ext cx="41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m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szylinder     -      Bü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2300400"/>
            <a:ext cx="3222720" cy="429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2492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(Modellöltropfen) = 34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518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äch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passen sich der Form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2554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518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äch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passen sich der Form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2060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löltropf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ällt aufs Was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ive und intensive Eigenschaften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. 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ffmenge – molare Mas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518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äch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passen sich der Form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59680" y="5095800"/>
            <a:ext cx="23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8 cm x 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64 c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9440" y="292428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ldung der monomolekularen Sch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409572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Quadratur des Kre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2060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löltropf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ällt aufs Was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1280" y="1773360"/>
                <a:ext cx="31273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²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16360" y="1773360"/>
                <a:ext cx="40672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m,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5 cm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t xml:space="preserve">4,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39640" y="1268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lrechn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67992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versu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11280" y="4254480"/>
                <a:ext cx="720864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,62 c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 cm²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8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72000" y="2276640"/>
            <a:ext cx="4321080" cy="9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660920"/>
            <a:ext cx="7561080" cy="151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2276640"/>
            <a:ext cx="4321080" cy="115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229360"/>
            <a:ext cx="7561080" cy="107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5187960"/>
            <a:ext cx="619308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5156280"/>
            <a:ext cx="511344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5229360"/>
            <a:ext cx="439272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5229360"/>
            <a:ext cx="295128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3440" y="126828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dr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345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ilchendurchmesser etwa: der milliardste Teil eines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14172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ts gültiger Umrechnungsfaktor zwischen Kreis und Quadrat: a/r=1,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7080" y="1787400"/>
            <a:ext cx="4300560" cy="322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2936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as ist me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sse bestim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lumen bestim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chwe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6920" y="2205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Ei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00520" y="1805040"/>
            <a:ext cx="4300560" cy="322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20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Ei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22936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as ist me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zahl bestim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691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Dutzend = 12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Schock =   5 Dutzend =   60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Gros     = 12 Dutzend = 144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Mol       =   6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²³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798720"/>
            <a:ext cx="287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 dz   = 12 s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 mol =   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0²³ s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19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ät: Abzählbarkeit, nicht nur bei Stoffm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413000"/>
            <a:ext cx="7488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sse, Volumen, Stoffmenge: ex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nsive Eigenschaft oder Intensitä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chte, molare Masse: Quoti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nsitätsphänomene haben zwei Charakteri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eilungseigenschaft, Trägheitseigen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ungseigenschaft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m Teilen des Objekts bleibt die Intensität er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ungseigenschaft: Grundlage des Wiedererkennens von Stoffen unabhängig von der Portionsgröß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rägheitseigenschaf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bjekte mit großer Extension ändern ihre Intensität nur sehr trä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87280" y="4076640"/>
                <a:ext cx="3229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nsitä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enitivgröß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tens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79280" y="5070600"/>
            <a:ext cx="8713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Dichte: Intensität einer Masse, Massenintens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intensiv ist ein bestimmter Raum mit Masse angefü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080" y="1197000"/>
            <a:ext cx="889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iele Phänomene kann man extensiv und intensiv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spiele: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sse (extensiv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chte (intensi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Wander)Strecke (extensiv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Geschwindigkeit (intens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der Dichte: 2 Qualitäten gleichzeitig im 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Größe, deren Intensität man angeben will (Genitivgröß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Größe, die die Ausdehnung beschreibt.      (Ext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651640" y="4008600"/>
                <a:ext cx="2340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ch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2680" y="1490760"/>
            <a:ext cx="896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lare Masse – ebenfalls eine Massenintens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intensiv ist eine Teilchensorte mit Masse vers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erschiedliche Extension: Volumen, Teilchenanz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hte – druckabhängig, temperaturabhängig weg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484360" y="3860640"/>
                <a:ext cx="3232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are</m:t>
                    </m:r>
                    <m:r>
                      <m:rPr>
                        <m:lit/>
                        <m:nor/>
                      </m:rPr>
                      <m:t xml:space="preserve">Mass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offmen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50920" y="5157720"/>
            <a:ext cx="842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lare Masse – Durchschnittsm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il die andere Extension (Stoffmenge) weder vom Druck noch von der Temperatur abhängt, wird auch diese andere Massenintensität unabhängig von diesen Parame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40" y="1628640"/>
            <a:ext cx="90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lare Masse –Schülerübungen mit Schrauben und Mu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: Anzahl mit der Waage be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ionsgröße eines Reinstoffs (Stoffme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44600" y="3357720"/>
                <a:ext cx="5422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uflösen nach </m:t>
                    </m:r>
                    <m:r>
                      <m:t xml:space="preserve">n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50920" y="4591080"/>
            <a:ext cx="799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(Mutter)= 2,19 g/stk 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1/M(Mutter)= 0,457 stk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(NaCl)= (23 + 35,5)g/mol 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1/M(NaCl) = 0,0171 mol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268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nnung eines Modellgemis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91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0:15:30Z</dcterms:created>
  <dc:creator>jungermann</dc:creator>
  <dc:description/>
  <dc:language>en-US</dc:language>
  <cp:lastModifiedBy>jungermann</cp:lastModifiedBy>
  <dcterms:modified xsi:type="dcterms:W3CDTF">2009-02-20T11:29:41Z</dcterms:modified>
  <cp:revision>70</cp:revision>
  <dc:subject/>
  <dc:title>Anfängerunterricht Chemie in Klasse 8 statt in Klasse 9</dc:title>
</cp:coreProperties>
</file>